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E35-2B70-455C-AEF3-D91338EF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32F0-1E14-4F5D-ADD2-9921C8F1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AA9-34D0-4550-BD91-23E95CF5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289-4008-46C9-8345-57C43B1E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043-DDFD-4A0E-A7B5-D078B3F8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D98-0FDF-497A-95DD-41102A7B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057-6683-4C77-8082-0AC55C12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E379-4A62-4214-8D0D-FFBC6A03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9B4-A370-4E8A-86E3-F81B788C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8663-9BC9-407E-9CD1-5AC04EDF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6D1C-43F1-4851-82D2-27174B31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C44B-678A-4646-8FE3-97E7A7C9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2091-1CB7-4ED6-91FE-A4B5FE92F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law.ou.edu/ushistory/flags/akflag.gi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nchantedlearning.com/usa/states/alaska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5029200"/>
            <a:ext cx="365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lie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1371600"/>
            <a:ext cx="71629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cap="rnd" w="9360">
                  <a:solidFill>
                    <a:srgbClr val="66ccff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hiller"/>
              </a:rPr>
              <a:t>Alaska</a:t>
            </a:r>
            <a:endParaRPr b="1" i="1" lang="en-US" sz="5400" spc="1" strike="noStrike">
              <a:ln cap="rnd" w="9360">
                <a:solidFill>
                  <a:srgbClr val="66ccff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hiller"/>
              <a:ea typeface="Chiller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86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4911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 in 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51814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257800"/>
            <a:ext cx="4190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aska's Flag, 4/10/2012, www.50state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9154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: Jun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722,7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entered the union: Jan. 3 19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: North to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: Last frontier, or Great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: Forget me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: Willow ptarmi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: Alaska's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name: Russian ver. Of Aleutian word Alakshak meaning “great lands” or “peninsul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6324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nd in clip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m: J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al: 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g sledding is a very popular  sport in Alas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7162920" cy="4191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162920" y="552924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found in 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66680" y="4572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aska's  STATE FLA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609588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aska’s flag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22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aw.ou.edu/ushistory/flags/akflag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66680" y="380880"/>
            <a:ext cx="723924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 of Ala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pitol is June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190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5867280"/>
            <a:ext cx="8534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as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3/22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nchantedlearning.com/usa/states/alask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19320" y="533520"/>
            <a:ext cx="6933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aska’s state gem and Mine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Product Details"/>
          <p:cNvPicPr/>
          <p:nvPr/>
        </p:nvPicPr>
        <p:blipFill>
          <a:blip r:embed="rId1"/>
          <a:stretch/>
        </p:blipFill>
        <p:spPr>
          <a:xfrm>
            <a:off x="0" y="1523880"/>
            <a:ext cx="2743200" cy="2971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4419720"/>
            <a:ext cx="33530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azon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reen Jade Circle Shape Silver Tone Ai Love Pendant Necklace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/22/2012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mazon.com/Green-Circle-Silver-Pendant-Necklace/dp/B0067KKBFQ/ref=sr_1_36?s=jewelry&amp;ie=UTF8&amp;qid=1332423188&amp;sr=1-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2952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m: J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1143000"/>
            <a:ext cx="2362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eral: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105520" y="1828800"/>
            <a:ext cx="4038480" cy="3581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29200" y="1523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 in 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52Z</dcterms:created>
  <dc:creator>install</dc:creator>
  <dc:description/>
  <dc:language>en-US</dc:language>
  <cp:lastModifiedBy>install</cp:lastModifiedBy>
  <dcterms:modified xsi:type="dcterms:W3CDTF">2012-04-16T13:06:40Z</dcterms:modified>
  <cp:revision>14</cp:revision>
  <dc:subject/>
  <dc:title>Slide 1</dc:title>
</cp:coreProperties>
</file>